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comments/comment11.xml" ContentType="application/vnd.openxmlformats-officedocument.presentationml.comments+xml"/>
  <Override PartName="/ppt/comments/comment1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<Relationship Id="rId34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16-08-26T23:27:25.254000000" idx="1">
    <p:pos x="1479" y="818"/>
    <p:text/>
  </p:cm>
</p:cmLst>
</file>

<file path=ppt/comments/comment14.xml><?xml version="1.0" encoding="utf-8"?>
<p:cmLst xmlns:p="http://schemas.openxmlformats.org/presentationml/2006/main">
  <p:cm authorId="0" dt="2016-08-26T23:27:30.565000000" idx="2">
    <p:pos x="2770" y="349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0A66-C4C2-4ED7-9224-D3D61884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00A2-B061-4FE2-8576-1496FD81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A2461-2C06-4FE9-8230-11578957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CCE05-19BC-4AF9-9764-3D580150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FA8F4-EB45-41AD-ABEF-DDA8C64C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1FBA8-4971-455B-B242-A9A86F7C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91EF0-A30B-4A02-889E-EB083107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074C0-C21D-4802-9069-C86ABABC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5BA7F-8082-42E6-88B2-75096A7D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44CD2-7EEF-49D7-BB08-0F0231D0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C928E-BA86-4B97-ABC1-5DFE329D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ED7CC-D4FF-4313-B222-C7BCBC61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1F00-7515-43DA-8B4F-48A80AFC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B291E-371C-4977-81B2-D13389CB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16DA5-CC87-4147-AAD3-D8EE0AD9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21FA5-7E0D-4DF9-B0E4-B35C34CC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A3241-2F46-476D-8C9C-D805C5A2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DF374-73C6-403C-8E1C-300011D2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B35E6-AA60-4EE1-8652-FF9C7BBB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31ECA-57E0-489F-AB24-F0887FDF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11F14-F4EF-4E41-A237-711207F4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C2005-EC8D-4AE4-BEE0-8F2F8DBD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A5F2A-2862-4415-87B3-21D06F91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3FA7-FE04-46A2-B58A-FBEC30EC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6F942-E0EE-4CB9-8766-6B45C6B8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E695E-F3C2-4C06-A3E0-B6A283F7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FDFD4-06FF-44DF-B54F-CB816D69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D7918-5218-41F7-AB28-37A6AF2A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F8F40-879A-4689-8062-9011CDB8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0321F-64ED-4A80-9C3C-E67F2AEF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73EA6-299C-490B-8485-D3174E12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E4AE2-5BF1-40BE-8AD5-DEDF376A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CA04A-1764-4F9E-9BA2-6999467B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C0575-EBFF-41F9-9048-D242293A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4ED0-2B41-4ADE-AFB0-C0421AC9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6470F-76F3-4367-AA52-8CBDD7BA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D0F6F-2625-443E-9BBD-F66D5027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E534D-FC3A-4D32-A87A-471F871F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2B8F7-FCE3-4642-9513-4165B525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DC875-D7D5-47A5-AD50-28756094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14984-DD41-4BF9-AC57-F4CC3092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79DF5-FEB1-4CFB-A950-9F86697E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5B8EA-0165-4D68-A260-4F0EA339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D845F-E24E-4809-A53E-054C386A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6FE42-A998-474C-9A09-BB0C5624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277F-D5BE-44B5-94E4-FDBB85B3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B8B07-781F-4964-AD03-17768366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C256F-9318-4E51-846E-77683530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A35EC-ADBE-45E2-9CAB-E2840505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59BBB-E4E8-4098-B1B3-1339A6ED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B14FB-1D64-41CE-8790-C0BD8AA7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D65A-73FC-47CC-AF54-E9D052D6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68D5-AFBE-48F1-A4C7-72D8C0D8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EDEF-8819-4E75-AD91-A7E90656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07B5-2083-4D54-9693-EBC93E85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8782-CDEC-4C2A-BE6A-7BBE11AD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5A42-EBC5-4653-9F97-1AE790F1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75F6-37B0-425F-ADBE-47B46EE8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AF61-D69A-43D7-9C29-21B38337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5830-E0A9-4991-A853-FEAE3BF0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2B06-2E43-4621-B434-E77D89EA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8551-5551-4F8C-96F9-351CB0B5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E00A3-75CC-4D0E-B2AD-6A2BFA19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23912-6A66-4FC1-A853-53839403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EC2A5-A11B-4788-9F94-6ED27742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F956F-E5F4-480C-B47D-499DD447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22DE8-E89D-4FCB-A3F7-7334B418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FA7-776A-4393-8175-A78852B9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1A2C3-3498-4C59-9C98-00E84B27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E324A-B2E2-4474-8714-E3EA55BC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08666-70BE-442C-A4A1-2481D450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F7CCF-1273-4656-93FB-19AADE44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950C0-3030-4FA6-A33E-43E2BEF8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82CE5-1381-47DA-96A5-3117B60B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56AA1-33E9-47BB-B97B-4C467AE4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8438F-95D0-4761-8190-E1EBDB5C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9D9FE-4AA7-4DC0-A0F4-0CA3F1BA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FAB90-CA8A-487A-AAE8-E1BCAA6B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D193-607D-49F7-8DD3-35F95D71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D185D-9607-449E-A119-B3237715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338A2-4ACB-4893-88CE-35D422E0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36532-51D9-43B5-80EA-1AB3C140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A539F-64B1-4DA6-8168-A68BDEB9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B62AB-B1F6-4E78-B675-9DA421AD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B268D-C0B9-47B3-9A1C-68A36857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79B35-C7AE-4106-A9E6-7A46979A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904A6-A1DE-48A4-9519-ACD44732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87CC8-D08A-4EFB-A457-D88C7693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E24DE-91D9-47AA-95CA-4DFD0DAD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2B50-C02A-4FEF-8825-2A41D11F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3A519-2934-4A99-B9C9-1F241786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B2BD9-EC91-4DA8-99A3-F2C17D88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A1AE5-5AB4-4279-AA59-666CD901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4488A-A508-4AE9-8EAD-2D34DF5B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85867-B562-4FA5-8C72-23781DAA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EBF87-400C-423A-BF00-D6E197FF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E75D6-1E81-42DE-8D50-9F3BF541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DC0CD-F3FE-4F1B-A943-4DC6C935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A3593-9CCB-4CE8-9FE6-4D43A22E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D5A8C-AEE5-49CE-916A-68DEDE3F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508-0BEA-41CA-BB14-B66EA9E2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488F2-F254-4D80-8573-789BD5CD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14CC9-AAEC-4604-A896-D35A0D13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79547-00A0-4FE6-B13B-39BDA020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D548A-5F88-44A7-B237-0653F7C7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5E47C-16D0-4CBF-8078-EDCBE1FA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8C706-1F89-43BD-BECF-E84D4107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0654A-77E9-4212-B553-921BB550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7440E-92E3-4A32-99C8-F08B3DB8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63FD8-F626-425B-80AD-F94CA586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0CEB2-D228-46C1-937F-7C299F48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628-C4A9-4194-80B7-03CED8A5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71EBF-213A-48DD-A017-D8CC6360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CC99F-9017-4725-B6B8-68F83BA5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D25EB-ADE0-4902-9A37-385235A1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BB0B2-4CB6-4595-A3BA-A6433391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D3591-E664-4C5E-B416-8704D22F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4D0DC-DC61-47BF-8E12-2608B268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024B0-FA50-4B66-B537-13574A7B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A632C-4036-44FA-A33F-94CD85D5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DB4EC-4480-4762-8CE3-63FBC70C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36E55-DD65-4B28-91D5-985384F1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5B4-A75C-47BB-AC8A-CEC1C256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8145B-5B60-414D-832D-E5C08005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9F6E9-C503-4298-9ADE-2E2846CA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1F07C-AC33-4533-AB88-7D463E6D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17C82-B268-4B4E-92A1-43CC95EA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98EEB-A1E1-48B7-8EB7-4207A4B2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08CB6-65BA-4B53-85DA-B9558928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7CD1A-D18D-4843-9C81-E85DA26D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08F95-B19E-40F0-B5DF-0BD53CE2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3609B-2951-4FA8-B0A8-CEFBDE0A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1AF71-BB23-467E-83CD-31728332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FEB-298F-47F3-8C9F-683DE18E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59CBF-4B20-4466-BED3-B9DC2049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9D99F-1096-41EC-B664-0E1487EC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7463C-C03B-4EB4-97FE-E27C08F0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C1A35-941E-45DA-A32B-1F4CB54B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572BC-96DF-4D97-99DF-85DA0084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EC07D-2B97-4435-A838-492F9041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6A65B-D983-483A-8BCA-A2D87D42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D083D-319F-4592-A573-F554E9A8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0D9E1-2C54-4906-8EA7-B07F8C46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885A3-CBFA-4AC3-A937-DD23A969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686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686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686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686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686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687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687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A9E7-DD40-48EE-B7C6-ABDE5E5E23F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0835-1BD2-455C-9D8A-D6F2EB14909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9916-159C-4B64-8F7A-972AF3357B9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FBE6-620D-476C-99B2-A461210F53A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3788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51" name="椭圆 3789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789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789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789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" name="椭圆 3789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" name="椭圆 3789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9" name="图片 37903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6BF9-4845-4D0E-B6FD-F6114D5AAF0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CE81-39D9-40E8-A36B-0CF1F21DFE4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C4DC-9179-45B9-A9B2-9C9D80D8925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2009-C69F-454D-A4F9-FFBA92A665F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DB69-05D5-47DC-A6AE-BBB47EC0402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FC4B-213D-43F0-9772-8E5B1619EDD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91FE-963C-4ED8-A283-93CC6D5C600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C652-A910-45C8-A881-726E881737A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<Relationship Id="rId4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lian.com/e/ViewImg/index.html?url=http://img1.3lian.com/img2011/10/84/0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2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513" name="矩形 4"/>
          <p:cNvSpPr/>
          <p:nvPr/>
        </p:nvSpPr>
        <p:spPr>
          <a:xfrm>
            <a:off x="2484360" y="638280"/>
            <a:ext cx="463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ie   üe  er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Object 2" descr=""/>
          <p:cNvPicPr/>
          <p:nvPr/>
        </p:nvPicPr>
        <p:blipFill>
          <a:blip r:embed="rId1"/>
          <a:stretch/>
        </p:blipFill>
        <p:spPr>
          <a:xfrm>
            <a:off x="0" y="2755800"/>
            <a:ext cx="9144000" cy="355464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3"/>
          <p:cNvGrpSpPr/>
          <p:nvPr/>
        </p:nvGrpSpPr>
        <p:grpSpPr>
          <a:xfrm>
            <a:off x="2724840" y="3843360"/>
            <a:ext cx="3144240" cy="1434960"/>
            <a:chOff x="2724840" y="3843360"/>
            <a:chExt cx="3144240" cy="1434960"/>
          </a:xfrm>
        </p:grpSpPr>
        <p:sp>
          <p:nvSpPr>
            <p:cNvPr id="657" name="Text Box 4"/>
            <p:cNvSpPr/>
            <p:nvPr/>
          </p:nvSpPr>
          <p:spPr>
            <a:xfrm>
              <a:off x="2724840" y="3843360"/>
              <a:ext cx="417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 </a:t>
              </a: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j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276720" y="4058640"/>
              <a:ext cx="431640" cy="128880"/>
              <a:chOff x="3276720" y="4058640"/>
              <a:chExt cx="431640" cy="128880"/>
            </a:xfrm>
          </p:grpSpPr>
          <p:sp>
            <p:nvSpPr>
              <p:cNvPr id="659" name="Line 5"/>
              <p:cNvSpPr/>
              <p:nvPr/>
            </p:nvSpPr>
            <p:spPr>
              <a:xfrm>
                <a:off x="3276720" y="4058640"/>
                <a:ext cx="431640" cy="1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60" name=""/>
              <p:cNvSpPr txBox="1"/>
              <p:nvPr/>
            </p:nvSpPr>
            <p:spPr>
              <a:xfrm>
                <a:off x="3276720" y="4058640"/>
                <a:ext cx="431640" cy="128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61" name="Text Box 6"/>
            <p:cNvSpPr/>
            <p:nvPr/>
          </p:nvSpPr>
          <p:spPr>
            <a:xfrm>
              <a:off x="2726280" y="4187880"/>
              <a:ext cx="441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q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2" name="Text Box 7"/>
            <p:cNvSpPr/>
            <p:nvPr/>
          </p:nvSpPr>
          <p:spPr>
            <a:xfrm>
              <a:off x="2733480" y="4532040"/>
              <a:ext cx="400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x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3132000" y="4403160"/>
              <a:ext cx="432000" cy="360"/>
              <a:chOff x="3132000" y="4403160"/>
              <a:chExt cx="432000" cy="360"/>
            </a:xfrm>
          </p:grpSpPr>
          <p:sp>
            <p:nvSpPr>
              <p:cNvPr id="664" name="Line 8"/>
              <p:cNvSpPr/>
              <p:nvPr/>
            </p:nvSpPr>
            <p:spPr>
              <a:xfrm>
                <a:off x="3132000" y="4403160"/>
                <a:ext cx="4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65" name=""/>
              <p:cNvSpPr txBox="1"/>
              <p:nvPr/>
            </p:nvSpPr>
            <p:spPr>
              <a:xfrm>
                <a:off x="3132000" y="4403160"/>
                <a:ext cx="4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3131640" y="4532040"/>
              <a:ext cx="360720" cy="215280"/>
              <a:chOff x="3131640" y="4532040"/>
              <a:chExt cx="360720" cy="215280"/>
            </a:xfrm>
          </p:grpSpPr>
          <p:sp>
            <p:nvSpPr>
              <p:cNvPr id="667" name="Line 9"/>
              <p:cNvSpPr/>
              <p:nvPr/>
            </p:nvSpPr>
            <p:spPr>
              <a:xfrm flipV="1">
                <a:off x="3132000" y="4532040"/>
                <a:ext cx="36036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68" name=""/>
              <p:cNvSpPr txBox="1"/>
              <p:nvPr/>
            </p:nvSpPr>
            <p:spPr>
              <a:xfrm rot="10800000">
                <a:off x="3131640" y="4532040"/>
                <a:ext cx="360360" cy="21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69" name="Text Box 10"/>
            <p:cNvSpPr/>
            <p:nvPr/>
          </p:nvSpPr>
          <p:spPr>
            <a:xfrm>
              <a:off x="3681720" y="4145040"/>
              <a:ext cx="68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üe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4211280" y="4100760"/>
              <a:ext cx="289440" cy="172440"/>
              <a:chOff x="4211280" y="4100760"/>
              <a:chExt cx="289440" cy="172440"/>
            </a:xfrm>
          </p:grpSpPr>
          <p:sp>
            <p:nvSpPr>
              <p:cNvPr id="671" name="Line 11"/>
              <p:cNvSpPr/>
              <p:nvPr/>
            </p:nvSpPr>
            <p:spPr>
              <a:xfrm flipV="1">
                <a:off x="4211640" y="4100760"/>
                <a:ext cx="289080" cy="17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72" name=""/>
              <p:cNvSpPr txBox="1"/>
              <p:nvPr/>
            </p:nvSpPr>
            <p:spPr>
              <a:xfrm rot="10800000">
                <a:off x="4211280" y="4100760"/>
                <a:ext cx="289080" cy="172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4284720" y="4403160"/>
              <a:ext cx="358920" cy="360"/>
              <a:chOff x="4284720" y="4403160"/>
              <a:chExt cx="358920" cy="360"/>
            </a:xfrm>
          </p:grpSpPr>
          <p:sp>
            <p:nvSpPr>
              <p:cNvPr id="674" name="Line 12"/>
              <p:cNvSpPr/>
              <p:nvPr/>
            </p:nvSpPr>
            <p:spPr>
              <a:xfrm>
                <a:off x="4284720" y="4403160"/>
                <a:ext cx="3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75" name=""/>
              <p:cNvSpPr txBox="1"/>
              <p:nvPr/>
            </p:nvSpPr>
            <p:spPr>
              <a:xfrm>
                <a:off x="4284720" y="4403160"/>
                <a:ext cx="358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4211640" y="4532040"/>
              <a:ext cx="360360" cy="171720"/>
              <a:chOff x="4211640" y="4532040"/>
              <a:chExt cx="360360" cy="171720"/>
            </a:xfrm>
          </p:grpSpPr>
          <p:sp>
            <p:nvSpPr>
              <p:cNvPr id="677" name="Line 13"/>
              <p:cNvSpPr/>
              <p:nvPr/>
            </p:nvSpPr>
            <p:spPr>
              <a:xfrm>
                <a:off x="4211640" y="4532040"/>
                <a:ext cx="36036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78" name=""/>
              <p:cNvSpPr txBox="1"/>
              <p:nvPr/>
            </p:nvSpPr>
            <p:spPr>
              <a:xfrm>
                <a:off x="4211640" y="4532040"/>
                <a:ext cx="360360" cy="171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79" name="Text Box 14"/>
            <p:cNvSpPr/>
            <p:nvPr/>
          </p:nvSpPr>
          <p:spPr>
            <a:xfrm>
              <a:off x="4643640" y="3843360"/>
              <a:ext cx="122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 </a:t>
              </a: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jue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0" name="Text Box 15"/>
            <p:cNvSpPr/>
            <p:nvPr/>
          </p:nvSpPr>
          <p:spPr>
            <a:xfrm>
              <a:off x="4714200" y="4187880"/>
              <a:ext cx="944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que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1" name="Text Box 16"/>
            <p:cNvSpPr/>
            <p:nvPr/>
          </p:nvSpPr>
          <p:spPr>
            <a:xfrm>
              <a:off x="4794120" y="4574880"/>
              <a:ext cx="90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xue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82" name="Group 17"/>
          <p:cNvGrpSpPr/>
          <p:nvPr/>
        </p:nvGrpSpPr>
        <p:grpSpPr>
          <a:xfrm>
            <a:off x="2760840" y="981000"/>
            <a:ext cx="3455280" cy="1463400"/>
            <a:chOff x="2760840" y="981000"/>
            <a:chExt cx="3455280" cy="1463400"/>
          </a:xfrm>
        </p:grpSpPr>
        <p:sp>
          <p:nvSpPr>
            <p:cNvPr id="683" name="Text Box 18"/>
            <p:cNvSpPr/>
            <p:nvPr/>
          </p:nvSpPr>
          <p:spPr>
            <a:xfrm>
              <a:off x="2786760" y="981000"/>
              <a:ext cx="441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n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3389040" y="1204200"/>
              <a:ext cx="470520" cy="133920"/>
              <a:chOff x="3389040" y="1204200"/>
              <a:chExt cx="470520" cy="133920"/>
            </a:xfrm>
          </p:grpSpPr>
          <p:sp>
            <p:nvSpPr>
              <p:cNvPr id="685" name="Line 19"/>
              <p:cNvSpPr/>
              <p:nvPr/>
            </p:nvSpPr>
            <p:spPr>
              <a:xfrm>
                <a:off x="3389040" y="1204200"/>
                <a:ext cx="470520" cy="13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86" name=""/>
              <p:cNvSpPr txBox="1"/>
              <p:nvPr/>
            </p:nvSpPr>
            <p:spPr>
              <a:xfrm>
                <a:off x="3389040" y="1204200"/>
                <a:ext cx="470520" cy="133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87" name="Text Box 20"/>
            <p:cNvSpPr/>
            <p:nvPr/>
          </p:nvSpPr>
          <p:spPr>
            <a:xfrm>
              <a:off x="2760840" y="1319760"/>
              <a:ext cx="1832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8" name="Text Box 21"/>
            <p:cNvSpPr/>
            <p:nvPr/>
          </p:nvSpPr>
          <p:spPr>
            <a:xfrm>
              <a:off x="2775240" y="1695600"/>
              <a:ext cx="29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l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3231360" y="1562040"/>
              <a:ext cx="470880" cy="360"/>
              <a:chOff x="3231360" y="1562040"/>
              <a:chExt cx="470880" cy="360"/>
            </a:xfrm>
          </p:grpSpPr>
          <p:sp>
            <p:nvSpPr>
              <p:cNvPr id="690" name="Line 22"/>
              <p:cNvSpPr/>
              <p:nvPr/>
            </p:nvSpPr>
            <p:spPr>
              <a:xfrm>
                <a:off x="3231360" y="1562040"/>
                <a:ext cx="47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91" name=""/>
              <p:cNvSpPr txBox="1"/>
              <p:nvPr/>
            </p:nvSpPr>
            <p:spPr>
              <a:xfrm>
                <a:off x="3231360" y="1562040"/>
                <a:ext cx="47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3231000" y="1695600"/>
              <a:ext cx="393120" cy="223200"/>
              <a:chOff x="3231000" y="1695600"/>
              <a:chExt cx="393120" cy="223200"/>
            </a:xfrm>
          </p:grpSpPr>
          <p:sp>
            <p:nvSpPr>
              <p:cNvPr id="693" name="Line 23"/>
              <p:cNvSpPr/>
              <p:nvPr/>
            </p:nvSpPr>
            <p:spPr>
              <a:xfrm flipV="1">
                <a:off x="3231360" y="1695600"/>
                <a:ext cx="392760" cy="22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94" name=""/>
              <p:cNvSpPr txBox="1"/>
              <p:nvPr/>
            </p:nvSpPr>
            <p:spPr>
              <a:xfrm rot="10800000">
                <a:off x="3231000" y="1695600"/>
                <a:ext cx="392760" cy="22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95" name="Text Box 24"/>
            <p:cNvSpPr/>
            <p:nvPr/>
          </p:nvSpPr>
          <p:spPr>
            <a:xfrm>
              <a:off x="3826080" y="1293840"/>
              <a:ext cx="68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üe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4408560" y="1248480"/>
              <a:ext cx="315360" cy="179280"/>
              <a:chOff x="4408560" y="1248480"/>
              <a:chExt cx="315360" cy="179280"/>
            </a:xfrm>
          </p:grpSpPr>
          <p:sp>
            <p:nvSpPr>
              <p:cNvPr id="697" name="Line 25"/>
              <p:cNvSpPr/>
              <p:nvPr/>
            </p:nvSpPr>
            <p:spPr>
              <a:xfrm flipV="1">
                <a:off x="4408920" y="1248480"/>
                <a:ext cx="315000" cy="1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98" name=""/>
              <p:cNvSpPr txBox="1"/>
              <p:nvPr/>
            </p:nvSpPr>
            <p:spPr>
              <a:xfrm rot="10800000">
                <a:off x="4408560" y="1248480"/>
                <a:ext cx="315000" cy="17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4488480" y="1562040"/>
              <a:ext cx="391320" cy="360"/>
              <a:chOff x="4488480" y="1562040"/>
              <a:chExt cx="391320" cy="360"/>
            </a:xfrm>
          </p:grpSpPr>
          <p:sp>
            <p:nvSpPr>
              <p:cNvPr id="700" name="Line 26"/>
              <p:cNvSpPr/>
              <p:nvPr/>
            </p:nvSpPr>
            <p:spPr>
              <a:xfrm>
                <a:off x="4488480" y="1562040"/>
                <a:ext cx="39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01" name=""/>
              <p:cNvSpPr txBox="1"/>
              <p:nvPr/>
            </p:nvSpPr>
            <p:spPr>
              <a:xfrm>
                <a:off x="4488480" y="1562040"/>
                <a:ext cx="391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4408920" y="1695600"/>
              <a:ext cx="392760" cy="178200"/>
              <a:chOff x="4408920" y="1695600"/>
              <a:chExt cx="392760" cy="178200"/>
            </a:xfrm>
          </p:grpSpPr>
          <p:sp>
            <p:nvSpPr>
              <p:cNvPr id="703" name="Line 27"/>
              <p:cNvSpPr/>
              <p:nvPr/>
            </p:nvSpPr>
            <p:spPr>
              <a:xfrm>
                <a:off x="4408920" y="1695600"/>
                <a:ext cx="39276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04" name=""/>
              <p:cNvSpPr txBox="1"/>
              <p:nvPr/>
            </p:nvSpPr>
            <p:spPr>
              <a:xfrm>
                <a:off x="4408920" y="1695600"/>
                <a:ext cx="392760" cy="178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705" name="Text Box 28"/>
            <p:cNvSpPr/>
            <p:nvPr/>
          </p:nvSpPr>
          <p:spPr>
            <a:xfrm>
              <a:off x="4879800" y="981000"/>
              <a:ext cx="1336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nüe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6" name="Text Box 29"/>
            <p:cNvSpPr/>
            <p:nvPr/>
          </p:nvSpPr>
          <p:spPr>
            <a:xfrm>
              <a:off x="4879800" y="1319760"/>
              <a:ext cx="1832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7" name="Text Box 30"/>
            <p:cNvSpPr/>
            <p:nvPr/>
          </p:nvSpPr>
          <p:spPr>
            <a:xfrm>
              <a:off x="5018400" y="1740960"/>
              <a:ext cx="799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lüe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08" name="AutoShape 31"/>
          <p:cNvSpPr/>
          <p:nvPr/>
        </p:nvSpPr>
        <p:spPr>
          <a:xfrm>
            <a:off x="5927760" y="1198440"/>
            <a:ext cx="3384360" cy="646200"/>
          </a:xfrm>
          <a:prstGeom prst="wedgeEllipseCallout">
            <a:avLst>
              <a:gd name="adj1" fmla="val -38976"/>
              <a:gd name="adj2" fmla="val 6073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9" name="Text Box 32"/>
          <p:cNvSpPr/>
          <p:nvPr/>
        </p:nvSpPr>
        <p:spPr>
          <a:xfrm>
            <a:off x="6013440" y="119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你发现了什么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0" name="同侧圆角矩形 3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42f8e0b47c1a1b608ad4b2e9"/>
          <p:cNvPicPr/>
          <p:nvPr/>
        </p:nvPicPr>
        <p:blipFill>
          <a:blip r:embed="rId1"/>
          <a:stretch/>
        </p:blipFill>
        <p:spPr>
          <a:xfrm>
            <a:off x="181080" y="982800"/>
            <a:ext cx="8783640" cy="537372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3" descr="W020080825403882429501"/>
          <p:cNvPicPr/>
          <p:nvPr/>
        </p:nvPicPr>
        <p:blipFill>
          <a:blip r:embed="rId2"/>
          <a:stretch/>
        </p:blipFill>
        <p:spPr>
          <a:xfrm>
            <a:off x="344520" y="1552680"/>
            <a:ext cx="3514680" cy="310500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714" name="Text Box 4"/>
          <p:cNvSpPr/>
          <p:nvPr/>
        </p:nvSpPr>
        <p:spPr>
          <a:xfrm>
            <a:off x="4068720" y="3286080"/>
            <a:ext cx="4824360" cy="1699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小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ü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小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ü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有礼貌，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见了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jqx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就脱帽。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"/>
          <p:cNvSpPr/>
          <p:nvPr/>
        </p:nvSpPr>
        <p:spPr>
          <a:xfrm>
            <a:off x="5688000" y="1962000"/>
            <a:ext cx="25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q</a:t>
            </a:r>
            <a:r>
              <a:rPr b="0" i="1" lang="zh-CN" sz="54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uè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孔 雀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3132360" y="4962600"/>
            <a:ext cx="479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q--üè---què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19" name="Picture 4" descr="MP900227813[1]"/>
          <p:cNvPicPr/>
          <p:nvPr/>
        </p:nvPicPr>
        <p:blipFill>
          <a:blip r:embed="rId1"/>
          <a:stretch/>
        </p:blipFill>
        <p:spPr>
          <a:xfrm>
            <a:off x="468360" y="1054080"/>
            <a:ext cx="4284720" cy="3716280"/>
          </a:xfrm>
          <a:prstGeom prst="rect">
            <a:avLst/>
          </a:prstGeom>
          <a:ln w="0">
            <a:noFill/>
          </a:ln>
        </p:spPr>
      </p:pic>
      <p:sp>
        <p:nvSpPr>
          <p:cNvPr id="720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50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50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50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2" descr=""/>
          <p:cNvPicPr/>
          <p:nvPr/>
        </p:nvPicPr>
        <p:blipFill>
          <a:blip r:embed="rId1"/>
          <a:stretch/>
        </p:blipFill>
        <p:spPr>
          <a:xfrm>
            <a:off x="611280" y="1527120"/>
            <a:ext cx="8093160" cy="4651560"/>
          </a:xfrm>
          <a:prstGeom prst="rect">
            <a:avLst/>
          </a:prstGeom>
          <a:ln w="0">
            <a:noFill/>
          </a:ln>
        </p:spPr>
      </p:pic>
      <p:sp>
        <p:nvSpPr>
          <p:cNvPr id="723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2" descr="20067201254429180"/>
          <p:cNvPicPr/>
          <p:nvPr/>
        </p:nvPicPr>
        <p:blipFill>
          <a:blip r:embed="rId1"/>
          <a:stretch/>
        </p:blipFill>
        <p:spPr>
          <a:xfrm>
            <a:off x="487440" y="1149480"/>
            <a:ext cx="3960720" cy="5182920"/>
          </a:xfrm>
          <a:prstGeom prst="rect">
            <a:avLst/>
          </a:prstGeom>
          <a:ln w="0">
            <a:noFill/>
          </a:ln>
        </p:spPr>
      </p:pic>
      <p:grpSp>
        <p:nvGrpSpPr>
          <p:cNvPr id="726" name="Group 3"/>
          <p:cNvGrpSpPr/>
          <p:nvPr/>
        </p:nvGrpSpPr>
        <p:grpSpPr>
          <a:xfrm>
            <a:off x="5435640" y="1946160"/>
            <a:ext cx="3529080" cy="3514320"/>
            <a:chOff x="5435640" y="1946160"/>
            <a:chExt cx="3529080" cy="3514320"/>
          </a:xfrm>
        </p:grpSpPr>
        <p:grpSp>
          <p:nvGrpSpPr>
            <p:cNvPr id="727" name=""/>
            <p:cNvGrpSpPr/>
            <p:nvPr/>
          </p:nvGrpSpPr>
          <p:grpSpPr>
            <a:xfrm>
              <a:off x="5435640" y="4263840"/>
              <a:ext cx="3456000" cy="360"/>
              <a:chOff x="5435640" y="4263840"/>
              <a:chExt cx="3456000" cy="360"/>
            </a:xfrm>
          </p:grpSpPr>
          <p:sp>
            <p:nvSpPr>
              <p:cNvPr id="728" name="Line 4"/>
              <p:cNvSpPr/>
              <p:nvPr/>
            </p:nvSpPr>
            <p:spPr>
              <a:xfrm>
                <a:off x="5435640" y="4263840"/>
                <a:ext cx="3456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29" name=""/>
              <p:cNvSpPr txBox="1"/>
              <p:nvPr/>
            </p:nvSpPr>
            <p:spPr>
              <a:xfrm>
                <a:off x="5435640" y="4263840"/>
                <a:ext cx="345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730" name="Group 5"/>
            <p:cNvGrpSpPr/>
            <p:nvPr/>
          </p:nvGrpSpPr>
          <p:grpSpPr>
            <a:xfrm>
              <a:off x="5435640" y="1946160"/>
              <a:ext cx="3529080" cy="3514320"/>
              <a:chOff x="5435640" y="1946160"/>
              <a:chExt cx="3529080" cy="351432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5435640" y="3056400"/>
                <a:ext cx="3456000" cy="360"/>
                <a:chOff x="5435640" y="3056400"/>
                <a:chExt cx="3456000" cy="360"/>
              </a:xfrm>
            </p:grpSpPr>
            <p:sp>
              <p:nvSpPr>
                <p:cNvPr id="732" name="Line 6"/>
                <p:cNvSpPr/>
                <p:nvPr/>
              </p:nvSpPr>
              <p:spPr>
                <a:xfrm>
                  <a:off x="5435640" y="3056400"/>
                  <a:ext cx="34560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33" name=""/>
                <p:cNvSpPr txBox="1"/>
                <p:nvPr/>
              </p:nvSpPr>
              <p:spPr>
                <a:xfrm>
                  <a:off x="5435640" y="3056400"/>
                  <a:ext cx="3456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734" name=""/>
              <p:cNvGrpSpPr/>
              <p:nvPr/>
            </p:nvGrpSpPr>
            <p:grpSpPr>
              <a:xfrm>
                <a:off x="5435640" y="5411520"/>
                <a:ext cx="3456000" cy="360"/>
                <a:chOff x="5435640" y="5411520"/>
                <a:chExt cx="3456000" cy="360"/>
              </a:xfrm>
            </p:grpSpPr>
            <p:sp>
              <p:nvSpPr>
                <p:cNvPr id="735" name="Line 7"/>
                <p:cNvSpPr/>
                <p:nvPr/>
              </p:nvSpPr>
              <p:spPr>
                <a:xfrm>
                  <a:off x="5435640" y="5411520"/>
                  <a:ext cx="34560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36" name=""/>
                <p:cNvSpPr txBox="1"/>
                <p:nvPr/>
              </p:nvSpPr>
              <p:spPr>
                <a:xfrm>
                  <a:off x="5435640" y="5411520"/>
                  <a:ext cx="3456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737" name=""/>
              <p:cNvGrpSpPr/>
              <p:nvPr/>
            </p:nvGrpSpPr>
            <p:grpSpPr>
              <a:xfrm>
                <a:off x="5435640" y="1969920"/>
                <a:ext cx="3529080" cy="360"/>
                <a:chOff x="5435640" y="1969920"/>
                <a:chExt cx="3529080" cy="360"/>
              </a:xfrm>
            </p:grpSpPr>
            <p:sp>
              <p:nvSpPr>
                <p:cNvPr id="738" name="Line 8"/>
                <p:cNvSpPr/>
                <p:nvPr/>
              </p:nvSpPr>
              <p:spPr>
                <a:xfrm>
                  <a:off x="5435640" y="1969920"/>
                  <a:ext cx="35290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39" name=""/>
                <p:cNvSpPr txBox="1"/>
                <p:nvPr/>
              </p:nvSpPr>
              <p:spPr>
                <a:xfrm>
                  <a:off x="5435640" y="1969920"/>
                  <a:ext cx="3529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740" name=""/>
              <p:cNvGrpSpPr/>
              <p:nvPr/>
            </p:nvGrpSpPr>
            <p:grpSpPr>
              <a:xfrm>
                <a:off x="5450040" y="1958040"/>
                <a:ext cx="360" cy="3502440"/>
                <a:chOff x="5450040" y="1958040"/>
                <a:chExt cx="360" cy="3502440"/>
              </a:xfrm>
            </p:grpSpPr>
            <p:sp>
              <p:nvSpPr>
                <p:cNvPr id="741" name="Line 9"/>
                <p:cNvSpPr/>
                <p:nvPr/>
              </p:nvSpPr>
              <p:spPr>
                <a:xfrm>
                  <a:off x="5450040" y="1958040"/>
                  <a:ext cx="0" cy="35024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42" name=""/>
                <p:cNvSpPr txBox="1"/>
                <p:nvPr/>
              </p:nvSpPr>
              <p:spPr>
                <a:xfrm>
                  <a:off x="5450040" y="1958040"/>
                  <a:ext cx="360" cy="350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743" name=""/>
              <p:cNvGrpSpPr/>
              <p:nvPr/>
            </p:nvGrpSpPr>
            <p:grpSpPr>
              <a:xfrm>
                <a:off x="8921880" y="1946160"/>
                <a:ext cx="360" cy="3502440"/>
                <a:chOff x="8921880" y="1946160"/>
                <a:chExt cx="360" cy="3502440"/>
              </a:xfrm>
            </p:grpSpPr>
            <p:sp>
              <p:nvSpPr>
                <p:cNvPr id="744" name="Line 10"/>
                <p:cNvSpPr/>
                <p:nvPr/>
              </p:nvSpPr>
              <p:spPr>
                <a:xfrm>
                  <a:off x="8921880" y="1946160"/>
                  <a:ext cx="0" cy="35024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45" name=""/>
                <p:cNvSpPr txBox="1"/>
                <p:nvPr/>
              </p:nvSpPr>
              <p:spPr>
                <a:xfrm>
                  <a:off x="8921880" y="1946160"/>
                  <a:ext cx="360" cy="350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746" name="Text Box 11"/>
          <p:cNvSpPr/>
          <p:nvPr/>
        </p:nvSpPr>
        <p:spPr>
          <a:xfrm>
            <a:off x="5724360" y="1930320"/>
            <a:ext cx="3241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4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er</a:t>
            </a:r>
            <a:endParaRPr b="0" i="1" lang="en-US" sz="20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7" name="Text Box 12"/>
          <p:cNvSpPr/>
          <p:nvPr/>
        </p:nvSpPr>
        <p:spPr>
          <a:xfrm>
            <a:off x="3419640" y="5661000"/>
            <a:ext cx="57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两只耳朵  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er    er    er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8" name="同侧圆角矩形 1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468360" y="3429000"/>
            <a:ext cx="230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0" spc="-1" strike="noStrike" u="sng">
                <a:solidFill>
                  <a:srgbClr val="ff0000"/>
                </a:solidFill>
                <a:uFillTx/>
                <a:latin typeface="Dotum"/>
                <a:ea typeface="Dotum"/>
              </a:rPr>
              <a:t>er</a:t>
            </a:r>
            <a:endParaRPr b="0" i="1" lang="en-US" sz="1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1" name="AutoShape 3"/>
          <p:cNvSpPr/>
          <p:nvPr/>
        </p:nvSpPr>
        <p:spPr>
          <a:xfrm>
            <a:off x="2844720" y="981000"/>
            <a:ext cx="6264360" cy="3816360"/>
          </a:xfrm>
          <a:prstGeom prst="wedgeEllipseCallout">
            <a:avLst>
              <a:gd name="adj1" fmla="val -61708"/>
              <a:gd name="adj2" fmla="val 39643"/>
            </a:avLst>
          </a:prstGeom>
          <a:solidFill>
            <a:srgbClr val="cccc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我不是复韵母，我是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特殊韵母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谢谢复韵母兄弟和我做朋友，我不再孤单了！和朋友在一起我真快乐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!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Picture 2" descr="u=3532990476,1774320756&amp;fm=0&amp;gp=0"/>
          <p:cNvPicPr/>
          <p:nvPr/>
        </p:nvPicPr>
        <p:blipFill>
          <a:blip r:embed="rId1"/>
          <a:stretch/>
        </p:blipFill>
        <p:spPr>
          <a:xfrm>
            <a:off x="650880" y="1989000"/>
            <a:ext cx="4770360" cy="3789360"/>
          </a:xfrm>
          <a:prstGeom prst="rect">
            <a:avLst/>
          </a:prstGeom>
          <a:ln w="0">
            <a:noFill/>
          </a:ln>
        </p:spPr>
      </p:pic>
      <p:sp>
        <p:nvSpPr>
          <p:cNvPr id="755" name="Text Box 3"/>
          <p:cNvSpPr/>
          <p:nvPr/>
        </p:nvSpPr>
        <p:spPr>
          <a:xfrm>
            <a:off x="5975280" y="234936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ér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6" name="Text Box 4"/>
          <p:cNvSpPr/>
          <p:nvPr/>
        </p:nvSpPr>
        <p:spPr>
          <a:xfrm>
            <a:off x="5830920" y="3718080"/>
            <a:ext cx="30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儿 童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7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2" descr="红太阳"/>
          <p:cNvPicPr/>
          <p:nvPr/>
        </p:nvPicPr>
        <p:blipFill>
          <a:blip r:embed="rId1"/>
          <a:stretch/>
        </p:blipFill>
        <p:spPr>
          <a:xfrm>
            <a:off x="249120" y="1044720"/>
            <a:ext cx="8929800" cy="5327640"/>
          </a:xfrm>
          <a:prstGeom prst="rect">
            <a:avLst/>
          </a:prstGeom>
          <a:ln w="0">
            <a:noFill/>
          </a:ln>
        </p:spPr>
      </p:pic>
      <p:sp>
        <p:nvSpPr>
          <p:cNvPr id="760" name="Text Box 3"/>
          <p:cNvSpPr/>
          <p:nvPr/>
        </p:nvSpPr>
        <p:spPr>
          <a:xfrm>
            <a:off x="900000" y="1558800"/>
            <a:ext cx="518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椰树椰树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ie ie ie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2987640" y="2349360"/>
            <a:ext cx="540072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月亮月亮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üe   üe   üe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4932360" y="3357720"/>
            <a:ext cx="42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耳朵耳朵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er er er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3" name="同侧圆角矩形 5"/>
          <p:cNvSpPr/>
          <p:nvPr/>
        </p:nvSpPr>
        <p:spPr>
          <a:xfrm>
            <a:off x="506520" y="1044720"/>
            <a:ext cx="2000160" cy="515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4" name="直线连接符 21"/>
          <p:cNvSpPr/>
          <p:nvPr/>
        </p:nvSpPr>
        <p:spPr>
          <a:xfrm flipV="1">
            <a:off x="511200" y="1628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2" descr="cybk-0088"/>
          <p:cNvPicPr/>
          <p:nvPr/>
        </p:nvPicPr>
        <p:blipFill>
          <a:blip r:embed="rId1"/>
          <a:stretch/>
        </p:blipFill>
        <p:spPr>
          <a:xfrm>
            <a:off x="396720" y="1054080"/>
            <a:ext cx="8677440" cy="5256360"/>
          </a:xfrm>
          <a:prstGeom prst="rect">
            <a:avLst/>
          </a:prstGeom>
          <a:ln w="0">
            <a:noFill/>
          </a:ln>
        </p:spPr>
      </p:pic>
      <p:sp>
        <p:nvSpPr>
          <p:cNvPr id="766" name="Text Box 3"/>
          <p:cNvSpPr/>
          <p:nvPr/>
        </p:nvSpPr>
        <p:spPr>
          <a:xfrm>
            <a:off x="2556000" y="170172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月儿</a:t>
            </a: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弯弯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7" name="Text Box 4"/>
          <p:cNvSpPr/>
          <p:nvPr/>
        </p:nvSpPr>
        <p:spPr>
          <a:xfrm>
            <a:off x="2124000" y="3141720"/>
            <a:ext cx="590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月儿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弯弯挂蓝天，小溪弯弯出青山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大河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弯弯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流入海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，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街道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弯弯到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校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园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8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拓展提升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2"/>
          <p:cNvSpPr/>
          <p:nvPr/>
        </p:nvSpPr>
        <p:spPr>
          <a:xfrm>
            <a:off x="900000" y="5300640"/>
            <a:ext cx="260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世界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1" name="Text Box 4"/>
          <p:cNvSpPr/>
          <p:nvPr/>
        </p:nvSpPr>
        <p:spPr>
          <a:xfrm>
            <a:off x="468360" y="184644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队列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4429080" y="909720"/>
            <a:ext cx="43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bái xuě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3" name="Text Box 6"/>
          <p:cNvSpPr/>
          <p:nvPr/>
        </p:nvSpPr>
        <p:spPr>
          <a:xfrm>
            <a:off x="4500720" y="1917720"/>
            <a:ext cx="38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白雪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4" name="Text Box 7"/>
          <p:cNvSpPr/>
          <p:nvPr/>
        </p:nvSpPr>
        <p:spPr>
          <a:xfrm>
            <a:off x="395280" y="2709720"/>
            <a:ext cx="20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tiě  lù 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5" name="Text Box 8"/>
          <p:cNvSpPr/>
          <p:nvPr/>
        </p:nvSpPr>
        <p:spPr>
          <a:xfrm>
            <a:off x="598320" y="3429000"/>
            <a:ext cx="238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铁路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6" name="Text Box 9"/>
          <p:cNvSpPr/>
          <p:nvPr/>
        </p:nvSpPr>
        <p:spPr>
          <a:xfrm>
            <a:off x="671400" y="429264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Shì jiè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7" name="Text Box 8"/>
          <p:cNvSpPr/>
          <p:nvPr/>
        </p:nvSpPr>
        <p:spPr>
          <a:xfrm>
            <a:off x="4583160" y="3429000"/>
            <a:ext cx="238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喜鹊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8" name="Text Box 2"/>
          <p:cNvSpPr/>
          <p:nvPr/>
        </p:nvSpPr>
        <p:spPr>
          <a:xfrm>
            <a:off x="4200480" y="5300640"/>
            <a:ext cx="260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黑夜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9" name="Text Box 7"/>
          <p:cNvSpPr/>
          <p:nvPr/>
        </p:nvSpPr>
        <p:spPr>
          <a:xfrm>
            <a:off x="4479840" y="2709720"/>
            <a:ext cx="290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Xǐ què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0" name="Text Box 9"/>
          <p:cNvSpPr/>
          <p:nvPr/>
        </p:nvSpPr>
        <p:spPr>
          <a:xfrm>
            <a:off x="4098960" y="429264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Hēi yè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1" name="Text Box 7"/>
          <p:cNvSpPr/>
          <p:nvPr/>
        </p:nvSpPr>
        <p:spPr>
          <a:xfrm>
            <a:off x="385920" y="1106640"/>
            <a:ext cx="260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duì liè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2" name="同侧圆角矩形 16"/>
          <p:cNvSpPr/>
          <p:nvPr/>
        </p:nvSpPr>
        <p:spPr>
          <a:xfrm>
            <a:off x="468360" y="766800"/>
            <a:ext cx="2000160" cy="515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随堂练习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3" name="直线连接符 21"/>
          <p:cNvSpPr/>
          <p:nvPr/>
        </p:nvSpPr>
        <p:spPr>
          <a:xfrm flipV="1">
            <a:off x="468360" y="1342800"/>
            <a:ext cx="2071800" cy="46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5292720" y="1701720"/>
            <a:ext cx="3529080" cy="3516120"/>
            <a:chOff x="5292720" y="1701720"/>
            <a:chExt cx="3529080" cy="3516120"/>
          </a:xfrm>
        </p:grpSpPr>
        <p:grpSp>
          <p:nvGrpSpPr>
            <p:cNvPr id="515" name=""/>
            <p:cNvGrpSpPr/>
            <p:nvPr/>
          </p:nvGrpSpPr>
          <p:grpSpPr>
            <a:xfrm>
              <a:off x="5292720" y="4020480"/>
              <a:ext cx="3456000" cy="360"/>
              <a:chOff x="5292720" y="4020480"/>
              <a:chExt cx="3456000" cy="360"/>
            </a:xfrm>
          </p:grpSpPr>
          <p:sp>
            <p:nvSpPr>
              <p:cNvPr id="516" name="Line 3"/>
              <p:cNvSpPr/>
              <p:nvPr/>
            </p:nvSpPr>
            <p:spPr>
              <a:xfrm>
                <a:off x="5292720" y="4020480"/>
                <a:ext cx="3456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17" name=""/>
              <p:cNvSpPr txBox="1"/>
              <p:nvPr/>
            </p:nvSpPr>
            <p:spPr>
              <a:xfrm>
                <a:off x="5292720" y="4020480"/>
                <a:ext cx="345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18" name="Group 4"/>
            <p:cNvGrpSpPr/>
            <p:nvPr/>
          </p:nvGrpSpPr>
          <p:grpSpPr>
            <a:xfrm>
              <a:off x="5292720" y="1701720"/>
              <a:ext cx="3529080" cy="3516120"/>
              <a:chOff x="5292720" y="1701720"/>
              <a:chExt cx="3529080" cy="3516120"/>
            </a:xfrm>
          </p:grpSpPr>
          <p:grpSp>
            <p:nvGrpSpPr>
              <p:cNvPr id="519" name=""/>
              <p:cNvGrpSpPr/>
              <p:nvPr/>
            </p:nvGrpSpPr>
            <p:grpSpPr>
              <a:xfrm>
                <a:off x="5292720" y="2812680"/>
                <a:ext cx="3456000" cy="360"/>
                <a:chOff x="5292720" y="2812680"/>
                <a:chExt cx="3456000" cy="360"/>
              </a:xfrm>
            </p:grpSpPr>
            <p:sp>
              <p:nvSpPr>
                <p:cNvPr id="520" name="Line 5"/>
                <p:cNvSpPr/>
                <p:nvPr/>
              </p:nvSpPr>
              <p:spPr>
                <a:xfrm>
                  <a:off x="5292720" y="2812680"/>
                  <a:ext cx="34560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21" name=""/>
                <p:cNvSpPr txBox="1"/>
                <p:nvPr/>
              </p:nvSpPr>
              <p:spPr>
                <a:xfrm>
                  <a:off x="5292720" y="2812680"/>
                  <a:ext cx="3456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5292720" y="5168880"/>
                <a:ext cx="3456000" cy="360"/>
                <a:chOff x="5292720" y="5168880"/>
                <a:chExt cx="3456000" cy="360"/>
              </a:xfrm>
            </p:grpSpPr>
            <p:sp>
              <p:nvSpPr>
                <p:cNvPr id="523" name="Line 6"/>
                <p:cNvSpPr/>
                <p:nvPr/>
              </p:nvSpPr>
              <p:spPr>
                <a:xfrm>
                  <a:off x="5292720" y="5168880"/>
                  <a:ext cx="34560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24" name=""/>
                <p:cNvSpPr txBox="1"/>
                <p:nvPr/>
              </p:nvSpPr>
              <p:spPr>
                <a:xfrm>
                  <a:off x="5292720" y="5168880"/>
                  <a:ext cx="3456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5292720" y="1725480"/>
                <a:ext cx="3529080" cy="360"/>
                <a:chOff x="5292720" y="1725480"/>
                <a:chExt cx="3529080" cy="360"/>
              </a:xfrm>
            </p:grpSpPr>
            <p:sp>
              <p:nvSpPr>
                <p:cNvPr id="526" name="Line 7"/>
                <p:cNvSpPr/>
                <p:nvPr/>
              </p:nvSpPr>
              <p:spPr>
                <a:xfrm>
                  <a:off x="5292720" y="1725480"/>
                  <a:ext cx="35290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27" name=""/>
                <p:cNvSpPr txBox="1"/>
                <p:nvPr/>
              </p:nvSpPr>
              <p:spPr>
                <a:xfrm>
                  <a:off x="5292720" y="1725480"/>
                  <a:ext cx="3529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5307120" y="1713600"/>
                <a:ext cx="360" cy="3504240"/>
                <a:chOff x="5307120" y="1713600"/>
                <a:chExt cx="360" cy="3504240"/>
              </a:xfrm>
            </p:grpSpPr>
            <p:sp>
              <p:nvSpPr>
                <p:cNvPr id="529" name="Line 8"/>
                <p:cNvSpPr/>
                <p:nvPr/>
              </p:nvSpPr>
              <p:spPr>
                <a:xfrm>
                  <a:off x="5307120" y="1713600"/>
                  <a:ext cx="0" cy="35042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30" name=""/>
                <p:cNvSpPr txBox="1"/>
                <p:nvPr/>
              </p:nvSpPr>
              <p:spPr>
                <a:xfrm>
                  <a:off x="5307120" y="1713600"/>
                  <a:ext cx="360" cy="350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8778960" y="1701720"/>
                <a:ext cx="360" cy="3504240"/>
                <a:chOff x="8778960" y="1701720"/>
                <a:chExt cx="360" cy="3504240"/>
              </a:xfrm>
            </p:grpSpPr>
            <p:sp>
              <p:nvSpPr>
                <p:cNvPr id="532" name="Line 9"/>
                <p:cNvSpPr/>
                <p:nvPr/>
              </p:nvSpPr>
              <p:spPr>
                <a:xfrm>
                  <a:off x="8778960" y="1701720"/>
                  <a:ext cx="0" cy="35042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33" name=""/>
                <p:cNvSpPr txBox="1"/>
                <p:nvPr/>
              </p:nvSpPr>
              <p:spPr>
                <a:xfrm>
                  <a:off x="8778960" y="1701720"/>
                  <a:ext cx="360" cy="350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34" name="Text Box 10"/>
          <p:cNvSpPr/>
          <p:nvPr/>
        </p:nvSpPr>
        <p:spPr>
          <a:xfrm>
            <a:off x="4068720" y="544500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一棵椰树  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ie   ie   ie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35" name="Picture 11" descr="OOOPIC2_clr_20090402dc3a5129a25ddfb3"/>
          <p:cNvPicPr/>
          <p:nvPr/>
        </p:nvPicPr>
        <p:blipFill>
          <a:blip r:embed="rId1"/>
          <a:srcRect l="0" t="3228" r="0" b="3858"/>
          <a:stretch/>
        </p:blipFill>
        <p:spPr>
          <a:xfrm>
            <a:off x="468360" y="982800"/>
            <a:ext cx="4103640" cy="472572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12"/>
          <p:cNvSpPr/>
          <p:nvPr/>
        </p:nvSpPr>
        <p:spPr>
          <a:xfrm>
            <a:off x="5738760" y="1744560"/>
            <a:ext cx="28083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4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ie</a:t>
            </a:r>
            <a:endParaRPr b="0" i="1" lang="en-US" sz="20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同侧圆角矩形 1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5"/>
          <p:cNvPicPr/>
          <p:nvPr/>
        </p:nvPicPr>
        <p:blipFill>
          <a:blip r:embed="rId1"/>
          <a:stretch/>
        </p:blipFill>
        <p:spPr>
          <a:xfrm>
            <a:off x="252360" y="981000"/>
            <a:ext cx="8783640" cy="5310360"/>
          </a:xfrm>
          <a:prstGeom prst="rect">
            <a:avLst/>
          </a:prstGeom>
          <a:ln w="0">
            <a:noFill/>
          </a:ln>
        </p:spPr>
      </p:pic>
      <p:sp>
        <p:nvSpPr>
          <p:cNvPr id="540" name="WordArt 3"/>
          <p:cNvSpPr txBox="1"/>
          <p:nvPr/>
        </p:nvSpPr>
        <p:spPr>
          <a:xfrm>
            <a:off x="2340000" y="3286080"/>
            <a:ext cx="2305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 u="sng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uFillTx/>
                <a:latin typeface="方正姚体"/>
              </a:rPr>
              <a:t>ie</a:t>
            </a:r>
            <a:endParaRPr b="1" i="1" lang="en-US" sz="9600" spc="-1" strike="noStrike" u="sng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uFillTx/>
              <a:latin typeface="方正姚体"/>
              <a:ea typeface="方正姚体"/>
            </a:endParaRPr>
          </a:p>
        </p:txBody>
      </p:sp>
      <p:sp>
        <p:nvSpPr>
          <p:cNvPr id="541" name="WordArt 4"/>
          <p:cNvSpPr txBox="1"/>
          <p:nvPr/>
        </p:nvSpPr>
        <p:spPr>
          <a:xfrm>
            <a:off x="6012000" y="3429000"/>
            <a:ext cx="2087280" cy="22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ln w="0">
                  <a:noFill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uFillTx/>
                <a:latin typeface="方正姚体"/>
              </a:rPr>
              <a:t>ei</a:t>
            </a:r>
            <a:endParaRPr b="0" i="1" lang="en-US" sz="9600" spc="-1" strike="noStrike" u="sng">
              <a:ln w="0">
                <a:noFill/>
              </a:ln>
              <a:solidFill>
                <a:srgbClr val="0033cc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uFillTx/>
              <a:latin typeface="方正姚体"/>
              <a:ea typeface="方正姚体"/>
            </a:endParaRPr>
          </a:p>
        </p:txBody>
      </p:sp>
      <p:sp>
        <p:nvSpPr>
          <p:cNvPr id="542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1000" autoRev="1" fill="hold"/>
                                        <p:tgtEl>
                                          <p:spTgt spid="5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1000" autoRev="1" fill="hold"/>
                                        <p:tgtEl>
                                          <p:spTgt spid="5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Object 2" descr=""/>
          <p:cNvPicPr/>
          <p:nvPr/>
        </p:nvPicPr>
        <p:blipFill>
          <a:blip r:embed="rId1"/>
          <a:stretch/>
        </p:blipFill>
        <p:spPr>
          <a:xfrm>
            <a:off x="109440" y="981000"/>
            <a:ext cx="8855280" cy="5329440"/>
          </a:xfrm>
          <a:prstGeom prst="rect">
            <a:avLst/>
          </a:prstGeom>
          <a:ln w="0">
            <a:noFill/>
          </a:ln>
        </p:spPr>
      </p:pic>
      <p:grpSp>
        <p:nvGrpSpPr>
          <p:cNvPr id="545" name="Group 3"/>
          <p:cNvGrpSpPr/>
          <p:nvPr/>
        </p:nvGrpSpPr>
        <p:grpSpPr>
          <a:xfrm>
            <a:off x="2551680" y="1270080"/>
            <a:ext cx="3072600" cy="1512360"/>
            <a:chOff x="2551680" y="1270080"/>
            <a:chExt cx="3072600" cy="1512360"/>
          </a:xfrm>
        </p:grpSpPr>
        <p:sp>
          <p:nvSpPr>
            <p:cNvPr id="546" name="Text Box 4"/>
            <p:cNvSpPr/>
            <p:nvPr/>
          </p:nvSpPr>
          <p:spPr>
            <a:xfrm>
              <a:off x="2574000" y="1270080"/>
              <a:ext cx="441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d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3114000" y="1508040"/>
              <a:ext cx="417960" cy="142560"/>
              <a:chOff x="3114000" y="1508040"/>
              <a:chExt cx="417960" cy="142560"/>
            </a:xfrm>
          </p:grpSpPr>
          <p:sp>
            <p:nvSpPr>
              <p:cNvPr id="548" name="Line 5"/>
              <p:cNvSpPr/>
              <p:nvPr/>
            </p:nvSpPr>
            <p:spPr>
              <a:xfrm>
                <a:off x="3114000" y="1508040"/>
                <a:ext cx="41796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49" name=""/>
              <p:cNvSpPr txBox="1"/>
              <p:nvPr/>
            </p:nvSpPr>
            <p:spPr>
              <a:xfrm>
                <a:off x="3114000" y="1508040"/>
                <a:ext cx="417960" cy="14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50" name="Text Box 6"/>
            <p:cNvSpPr/>
            <p:nvPr/>
          </p:nvSpPr>
          <p:spPr>
            <a:xfrm>
              <a:off x="2551680" y="1650960"/>
              <a:ext cx="351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t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1" name="Text Box 7"/>
            <p:cNvSpPr/>
            <p:nvPr/>
          </p:nvSpPr>
          <p:spPr>
            <a:xfrm>
              <a:off x="2574000" y="2031840"/>
              <a:ext cx="441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n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2973960" y="1889280"/>
              <a:ext cx="418320" cy="360"/>
              <a:chOff x="2973960" y="1889280"/>
              <a:chExt cx="418320" cy="360"/>
            </a:xfrm>
          </p:grpSpPr>
          <p:sp>
            <p:nvSpPr>
              <p:cNvPr id="553" name="Line 8"/>
              <p:cNvSpPr/>
              <p:nvPr/>
            </p:nvSpPr>
            <p:spPr>
              <a:xfrm>
                <a:off x="2973960" y="1889280"/>
                <a:ext cx="41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54" name=""/>
              <p:cNvSpPr txBox="1"/>
              <p:nvPr/>
            </p:nvSpPr>
            <p:spPr>
              <a:xfrm>
                <a:off x="2973960" y="1889280"/>
                <a:ext cx="418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2973600" y="2031480"/>
              <a:ext cx="349200" cy="237960"/>
              <a:chOff x="2973600" y="2031480"/>
              <a:chExt cx="349200" cy="237960"/>
            </a:xfrm>
          </p:grpSpPr>
          <p:sp>
            <p:nvSpPr>
              <p:cNvPr id="556" name="Line 9"/>
              <p:cNvSpPr/>
              <p:nvPr/>
            </p:nvSpPr>
            <p:spPr>
              <a:xfrm flipV="1">
                <a:off x="2973960" y="2031480"/>
                <a:ext cx="34884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57" name=""/>
              <p:cNvSpPr txBox="1"/>
              <p:nvPr/>
            </p:nvSpPr>
            <p:spPr>
              <a:xfrm rot="10800000">
                <a:off x="2973600" y="2031480"/>
                <a:ext cx="34884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58" name="Text Box 10"/>
            <p:cNvSpPr/>
            <p:nvPr/>
          </p:nvSpPr>
          <p:spPr>
            <a:xfrm>
              <a:off x="3485880" y="1603440"/>
              <a:ext cx="53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ie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4019040" y="1555200"/>
              <a:ext cx="280080" cy="190800"/>
              <a:chOff x="4019040" y="1555200"/>
              <a:chExt cx="280080" cy="190800"/>
            </a:xfrm>
          </p:grpSpPr>
          <p:sp>
            <p:nvSpPr>
              <p:cNvPr id="560" name="Line 11"/>
              <p:cNvSpPr/>
              <p:nvPr/>
            </p:nvSpPr>
            <p:spPr>
              <a:xfrm flipV="1">
                <a:off x="4019400" y="1555200"/>
                <a:ext cx="279720" cy="1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61" name=""/>
              <p:cNvSpPr txBox="1"/>
              <p:nvPr/>
            </p:nvSpPr>
            <p:spPr>
              <a:xfrm rot="10800000">
                <a:off x="4019040" y="1555200"/>
                <a:ext cx="279720" cy="190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4090320" y="1889280"/>
              <a:ext cx="347400" cy="360"/>
              <a:chOff x="4090320" y="1889280"/>
              <a:chExt cx="347400" cy="360"/>
            </a:xfrm>
          </p:grpSpPr>
          <p:sp>
            <p:nvSpPr>
              <p:cNvPr id="563" name="Line 12"/>
              <p:cNvSpPr/>
              <p:nvPr/>
            </p:nvSpPr>
            <p:spPr>
              <a:xfrm>
                <a:off x="4090320" y="1889280"/>
                <a:ext cx="3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64" name=""/>
              <p:cNvSpPr txBox="1"/>
              <p:nvPr/>
            </p:nvSpPr>
            <p:spPr>
              <a:xfrm>
                <a:off x="4090320" y="1889280"/>
                <a:ext cx="34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4019400" y="2031840"/>
              <a:ext cx="348840" cy="190080"/>
              <a:chOff x="4019400" y="2031840"/>
              <a:chExt cx="348840" cy="190080"/>
            </a:xfrm>
          </p:grpSpPr>
          <p:sp>
            <p:nvSpPr>
              <p:cNvPr id="566" name="Line 13"/>
              <p:cNvSpPr/>
              <p:nvPr/>
            </p:nvSpPr>
            <p:spPr>
              <a:xfrm>
                <a:off x="4019400" y="2031840"/>
                <a:ext cx="348840" cy="19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67" name=""/>
              <p:cNvSpPr txBox="1"/>
              <p:nvPr/>
            </p:nvSpPr>
            <p:spPr>
              <a:xfrm>
                <a:off x="4019400" y="2031840"/>
                <a:ext cx="348840" cy="19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68" name="Text Box 14"/>
            <p:cNvSpPr/>
            <p:nvPr/>
          </p:nvSpPr>
          <p:spPr>
            <a:xfrm>
              <a:off x="4437720" y="1270080"/>
              <a:ext cx="1186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 </a:t>
              </a: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die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9" name="Text Box 15"/>
            <p:cNvSpPr/>
            <p:nvPr/>
          </p:nvSpPr>
          <p:spPr>
            <a:xfrm>
              <a:off x="4471920" y="1650960"/>
              <a:ext cx="82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 </a:t>
              </a: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tie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0" name="Text Box 16"/>
            <p:cNvSpPr/>
            <p:nvPr/>
          </p:nvSpPr>
          <p:spPr>
            <a:xfrm>
              <a:off x="4552560" y="2079000"/>
              <a:ext cx="799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nie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71" name="Group 17"/>
          <p:cNvGrpSpPr/>
          <p:nvPr/>
        </p:nvGrpSpPr>
        <p:grpSpPr>
          <a:xfrm>
            <a:off x="2608200" y="3567240"/>
            <a:ext cx="3052440" cy="1513440"/>
            <a:chOff x="2608200" y="3567240"/>
            <a:chExt cx="3052440" cy="1513440"/>
          </a:xfrm>
        </p:grpSpPr>
        <p:sp>
          <p:nvSpPr>
            <p:cNvPr id="572" name="Text Box 18"/>
            <p:cNvSpPr/>
            <p:nvPr/>
          </p:nvSpPr>
          <p:spPr>
            <a:xfrm>
              <a:off x="2608200" y="3567240"/>
              <a:ext cx="417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 </a:t>
              </a: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j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3149280" y="3805560"/>
              <a:ext cx="417960" cy="142920"/>
              <a:chOff x="3149280" y="3805560"/>
              <a:chExt cx="417960" cy="142920"/>
            </a:xfrm>
          </p:grpSpPr>
          <p:sp>
            <p:nvSpPr>
              <p:cNvPr id="574" name="Line 19"/>
              <p:cNvSpPr/>
              <p:nvPr/>
            </p:nvSpPr>
            <p:spPr>
              <a:xfrm>
                <a:off x="3149280" y="3805560"/>
                <a:ext cx="41796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5" name=""/>
              <p:cNvSpPr txBox="1"/>
              <p:nvPr/>
            </p:nvSpPr>
            <p:spPr>
              <a:xfrm>
                <a:off x="3149280" y="3805560"/>
                <a:ext cx="4179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76" name="Text Box 20"/>
            <p:cNvSpPr/>
            <p:nvPr/>
          </p:nvSpPr>
          <p:spPr>
            <a:xfrm>
              <a:off x="2609280" y="3948480"/>
              <a:ext cx="441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q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7" name="Text Box 21"/>
            <p:cNvSpPr/>
            <p:nvPr/>
          </p:nvSpPr>
          <p:spPr>
            <a:xfrm>
              <a:off x="2616480" y="4330080"/>
              <a:ext cx="400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x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3008880" y="4187160"/>
              <a:ext cx="418320" cy="360"/>
              <a:chOff x="3008880" y="4187160"/>
              <a:chExt cx="418320" cy="360"/>
            </a:xfrm>
          </p:grpSpPr>
          <p:sp>
            <p:nvSpPr>
              <p:cNvPr id="579" name="Line 22"/>
              <p:cNvSpPr/>
              <p:nvPr/>
            </p:nvSpPr>
            <p:spPr>
              <a:xfrm>
                <a:off x="3008880" y="4187160"/>
                <a:ext cx="41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80" name=""/>
              <p:cNvSpPr txBox="1"/>
              <p:nvPr/>
            </p:nvSpPr>
            <p:spPr>
              <a:xfrm>
                <a:off x="3008880" y="4187160"/>
                <a:ext cx="418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3008520" y="4330080"/>
              <a:ext cx="349200" cy="238320"/>
              <a:chOff x="3008520" y="4330080"/>
              <a:chExt cx="349200" cy="238320"/>
            </a:xfrm>
          </p:grpSpPr>
          <p:sp>
            <p:nvSpPr>
              <p:cNvPr id="582" name="Line 23"/>
              <p:cNvSpPr/>
              <p:nvPr/>
            </p:nvSpPr>
            <p:spPr>
              <a:xfrm flipV="1">
                <a:off x="3008880" y="4330080"/>
                <a:ext cx="348840" cy="23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83" name=""/>
              <p:cNvSpPr txBox="1"/>
              <p:nvPr/>
            </p:nvSpPr>
            <p:spPr>
              <a:xfrm rot="10800000">
                <a:off x="3008520" y="4330080"/>
                <a:ext cx="348840" cy="23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3521520" y="3901320"/>
              <a:ext cx="53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ie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4055040" y="3852360"/>
              <a:ext cx="280080" cy="191160"/>
              <a:chOff x="4055040" y="3852360"/>
              <a:chExt cx="280080" cy="191160"/>
            </a:xfrm>
          </p:grpSpPr>
          <p:sp>
            <p:nvSpPr>
              <p:cNvPr id="586" name="Line 25"/>
              <p:cNvSpPr/>
              <p:nvPr/>
            </p:nvSpPr>
            <p:spPr>
              <a:xfrm flipV="1">
                <a:off x="4055040" y="3852360"/>
                <a:ext cx="28008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87" name=""/>
              <p:cNvSpPr txBox="1"/>
              <p:nvPr/>
            </p:nvSpPr>
            <p:spPr>
              <a:xfrm rot="10800000">
                <a:off x="4055040" y="3852360"/>
                <a:ext cx="280080" cy="19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4125960" y="4187160"/>
              <a:ext cx="347400" cy="360"/>
              <a:chOff x="4125960" y="4187160"/>
              <a:chExt cx="347400" cy="360"/>
            </a:xfrm>
          </p:grpSpPr>
          <p:sp>
            <p:nvSpPr>
              <p:cNvPr id="589" name="Line 26"/>
              <p:cNvSpPr/>
              <p:nvPr/>
            </p:nvSpPr>
            <p:spPr>
              <a:xfrm>
                <a:off x="4125960" y="4187160"/>
                <a:ext cx="3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90" name=""/>
              <p:cNvSpPr txBox="1"/>
              <p:nvPr/>
            </p:nvSpPr>
            <p:spPr>
              <a:xfrm>
                <a:off x="4125960" y="4187160"/>
                <a:ext cx="34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4055040" y="4330080"/>
              <a:ext cx="348840" cy="190080"/>
              <a:chOff x="4055040" y="4330080"/>
              <a:chExt cx="348840" cy="190080"/>
            </a:xfrm>
          </p:grpSpPr>
          <p:sp>
            <p:nvSpPr>
              <p:cNvPr id="592" name="Line 27"/>
              <p:cNvSpPr/>
              <p:nvPr/>
            </p:nvSpPr>
            <p:spPr>
              <a:xfrm>
                <a:off x="4055040" y="4330080"/>
                <a:ext cx="348840" cy="19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93" name=""/>
              <p:cNvSpPr txBox="1"/>
              <p:nvPr/>
            </p:nvSpPr>
            <p:spPr>
              <a:xfrm>
                <a:off x="4055040" y="4330080"/>
                <a:ext cx="348840" cy="19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94" name="Text Box 28"/>
            <p:cNvSpPr/>
            <p:nvPr/>
          </p:nvSpPr>
          <p:spPr>
            <a:xfrm>
              <a:off x="4473360" y="3567240"/>
              <a:ext cx="118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 </a:t>
              </a: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jie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5" name="Text Box 29"/>
            <p:cNvSpPr/>
            <p:nvPr/>
          </p:nvSpPr>
          <p:spPr>
            <a:xfrm>
              <a:off x="4517640" y="3948480"/>
              <a:ext cx="799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qie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6" name="Text Box 30"/>
            <p:cNvSpPr/>
            <p:nvPr/>
          </p:nvSpPr>
          <p:spPr>
            <a:xfrm>
              <a:off x="4596120" y="4377240"/>
              <a:ext cx="758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xie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97" name="同侧圆角矩形 3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s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270080"/>
            <a:ext cx="4105440" cy="316692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3"/>
          <p:cNvSpPr/>
          <p:nvPr/>
        </p:nvSpPr>
        <p:spPr>
          <a:xfrm>
            <a:off x="6675120" y="1773360"/>
            <a:ext cx="96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x</a:t>
            </a:r>
            <a:r>
              <a:rPr b="0" i="1" lang="zh-CN" sz="54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ié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鞋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506760" y="4844880"/>
            <a:ext cx="405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x--ié---xié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5506920" y="1628640"/>
            <a:ext cx="225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d</a:t>
            </a:r>
            <a:r>
              <a:rPr b="0" i="1" lang="zh-CN" sz="54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ié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蝴 蝶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3550680" y="4772160"/>
            <a:ext cx="421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d--ié---dié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06" name="Picture 4" descr="hudie2_240"/>
          <p:cNvPicPr/>
          <p:nvPr/>
        </p:nvPicPr>
        <p:blipFill>
          <a:blip r:embed="rId1"/>
          <a:stretch/>
        </p:blipFill>
        <p:spPr>
          <a:xfrm>
            <a:off x="1403280" y="1054080"/>
            <a:ext cx="3241800" cy="3384720"/>
          </a:xfrm>
          <a:prstGeom prst="rect">
            <a:avLst/>
          </a:prstGeom>
          <a:ln w="0">
            <a:noFill/>
          </a:ln>
        </p:spPr>
      </p:pic>
      <p:sp>
        <p:nvSpPr>
          <p:cNvPr id="607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5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5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6216480" y="4986360"/>
            <a:ext cx="112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ye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10" name="Picture 3" descr="447a7fcf52664"/>
          <p:cNvPicPr/>
          <p:nvPr/>
        </p:nvPicPr>
        <p:blipFill>
          <a:blip r:embed="rId1"/>
          <a:stretch/>
        </p:blipFill>
        <p:spPr>
          <a:xfrm>
            <a:off x="1690560" y="2060640"/>
            <a:ext cx="3492720" cy="297180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4"/>
          <p:cNvSpPr/>
          <p:nvPr/>
        </p:nvSpPr>
        <p:spPr>
          <a:xfrm>
            <a:off x="719280" y="534672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ff"/>
                </a:solidFill>
                <a:uFillTx/>
                <a:latin typeface="Tahoma"/>
                <a:ea typeface="宋体"/>
              </a:rPr>
              <a:t>整体认读音节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6348240" y="2897280"/>
            <a:ext cx="1008360" cy="360"/>
            <a:chOff x="6348240" y="2897280"/>
            <a:chExt cx="1008360" cy="360"/>
          </a:xfrm>
        </p:grpSpPr>
        <p:sp>
          <p:nvSpPr>
            <p:cNvPr id="613" name="Line 5"/>
            <p:cNvSpPr/>
            <p:nvPr/>
          </p:nvSpPr>
          <p:spPr>
            <a:xfrm>
              <a:off x="6348240" y="2897280"/>
              <a:ext cx="100836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>
              <a:off x="6348240" y="2897280"/>
              <a:ext cx="100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15" name="Text Box 6"/>
          <p:cNvSpPr/>
          <p:nvPr/>
        </p:nvSpPr>
        <p:spPr>
          <a:xfrm>
            <a:off x="7500960" y="2322360"/>
            <a:ext cx="18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yè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叶子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16" name="Group 7"/>
          <p:cNvGrpSpPr/>
          <p:nvPr/>
        </p:nvGrpSpPr>
        <p:grpSpPr>
          <a:xfrm>
            <a:off x="5555880" y="2754360"/>
            <a:ext cx="648000" cy="792000"/>
            <a:chOff x="5555880" y="2754360"/>
            <a:chExt cx="648000" cy="792000"/>
          </a:xfrm>
        </p:grpSpPr>
        <p:grpSp>
          <p:nvGrpSpPr>
            <p:cNvPr id="617" name=""/>
            <p:cNvGrpSpPr/>
            <p:nvPr/>
          </p:nvGrpSpPr>
          <p:grpSpPr>
            <a:xfrm>
              <a:off x="5556240" y="2842200"/>
              <a:ext cx="647640" cy="615240"/>
              <a:chOff x="5556240" y="2842200"/>
              <a:chExt cx="647640" cy="615240"/>
            </a:xfrm>
          </p:grpSpPr>
          <p:sp>
            <p:nvSpPr>
              <p:cNvPr id="618" name="Line 8"/>
              <p:cNvSpPr/>
              <p:nvPr/>
            </p:nvSpPr>
            <p:spPr>
              <a:xfrm>
                <a:off x="5556240" y="2842200"/>
                <a:ext cx="647640" cy="615240"/>
              </a:xfrm>
              <a:prstGeom prst="line">
                <a:avLst/>
              </a:prstGeom>
              <a:ln w="136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9" name=""/>
              <p:cNvSpPr txBox="1"/>
              <p:nvPr/>
            </p:nvSpPr>
            <p:spPr>
              <a:xfrm>
                <a:off x="5556240" y="2842200"/>
                <a:ext cx="647640" cy="615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5555880" y="2754360"/>
              <a:ext cx="606960" cy="792000"/>
              <a:chOff x="5555880" y="2754360"/>
              <a:chExt cx="606960" cy="792000"/>
            </a:xfrm>
          </p:grpSpPr>
          <p:sp>
            <p:nvSpPr>
              <p:cNvPr id="621" name="Line 9"/>
              <p:cNvSpPr/>
              <p:nvPr/>
            </p:nvSpPr>
            <p:spPr>
              <a:xfrm flipH="1">
                <a:off x="5555880" y="2754360"/>
                <a:ext cx="606600" cy="792000"/>
              </a:xfrm>
              <a:prstGeom prst="line">
                <a:avLst/>
              </a:prstGeom>
              <a:ln w="136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22" name=""/>
              <p:cNvSpPr txBox="1"/>
              <p:nvPr/>
            </p:nvSpPr>
            <p:spPr>
              <a:xfrm>
                <a:off x="5556240" y="2754360"/>
                <a:ext cx="606600" cy="79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623" name="Text Box 10"/>
          <p:cNvSpPr/>
          <p:nvPr/>
        </p:nvSpPr>
        <p:spPr>
          <a:xfrm>
            <a:off x="5508720" y="2637000"/>
            <a:ext cx="75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iè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4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OOOPIC2_clr_20090402dc3a5129a25ddfb3"/>
          <p:cNvPicPr/>
          <p:nvPr/>
        </p:nvPicPr>
        <p:blipFill>
          <a:blip r:embed="rId1"/>
          <a:srcRect l="0" t="1076" r="0" b="4934"/>
          <a:stretch/>
        </p:blipFill>
        <p:spPr>
          <a:xfrm>
            <a:off x="828720" y="981000"/>
            <a:ext cx="3448080" cy="364500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3"/>
          <p:cNvSpPr/>
          <p:nvPr/>
        </p:nvSpPr>
        <p:spPr>
          <a:xfrm>
            <a:off x="1044720" y="501336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yē    zi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28" name="Picture 4" descr="107_9581"/>
          <p:cNvPicPr/>
          <p:nvPr/>
        </p:nvPicPr>
        <p:blipFill>
          <a:blip r:embed="rId2"/>
          <a:stretch/>
        </p:blipFill>
        <p:spPr>
          <a:xfrm>
            <a:off x="5148360" y="981000"/>
            <a:ext cx="3529080" cy="3648240"/>
          </a:xfrm>
          <a:prstGeom prst="rect">
            <a:avLst/>
          </a:prstGeom>
          <a:ln w="0">
            <a:noFill/>
          </a:ln>
        </p:spPr>
      </p:pic>
      <p:sp>
        <p:nvSpPr>
          <p:cNvPr id="629" name="Rectangle 5"/>
          <p:cNvSpPr/>
          <p:nvPr/>
        </p:nvSpPr>
        <p:spPr>
          <a:xfrm>
            <a:off x="5796000" y="4870440"/>
            <a:ext cx="273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yé    ye</a:t>
            </a:r>
            <a:r>
              <a:rPr b="0" i="1" lang="zh-CN" sz="60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 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2"/>
          <p:cNvGrpSpPr/>
          <p:nvPr/>
        </p:nvGrpSpPr>
        <p:grpSpPr>
          <a:xfrm>
            <a:off x="5364000" y="1989000"/>
            <a:ext cx="3529080" cy="3446280"/>
            <a:chOff x="5364000" y="1989000"/>
            <a:chExt cx="3529080" cy="3446280"/>
          </a:xfrm>
        </p:grpSpPr>
        <p:grpSp>
          <p:nvGrpSpPr>
            <p:cNvPr id="631" name=""/>
            <p:cNvGrpSpPr/>
            <p:nvPr/>
          </p:nvGrpSpPr>
          <p:grpSpPr>
            <a:xfrm>
              <a:off x="5364000" y="4261680"/>
              <a:ext cx="3456000" cy="360"/>
              <a:chOff x="5364000" y="4261680"/>
              <a:chExt cx="3456000" cy="360"/>
            </a:xfrm>
          </p:grpSpPr>
          <p:sp>
            <p:nvSpPr>
              <p:cNvPr id="632" name="Line 3"/>
              <p:cNvSpPr/>
              <p:nvPr/>
            </p:nvSpPr>
            <p:spPr>
              <a:xfrm>
                <a:off x="5364000" y="4261680"/>
                <a:ext cx="3456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3" name=""/>
              <p:cNvSpPr txBox="1"/>
              <p:nvPr/>
            </p:nvSpPr>
            <p:spPr>
              <a:xfrm>
                <a:off x="5364000" y="4261680"/>
                <a:ext cx="345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634" name="Group 4"/>
            <p:cNvGrpSpPr/>
            <p:nvPr/>
          </p:nvGrpSpPr>
          <p:grpSpPr>
            <a:xfrm>
              <a:off x="5364000" y="1989000"/>
              <a:ext cx="3529080" cy="3446280"/>
              <a:chOff x="5364000" y="1989000"/>
              <a:chExt cx="3529080" cy="344628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5364000" y="3077640"/>
                <a:ext cx="3456000" cy="360"/>
                <a:chOff x="5364000" y="3077640"/>
                <a:chExt cx="3456000" cy="360"/>
              </a:xfrm>
            </p:grpSpPr>
            <p:sp>
              <p:nvSpPr>
                <p:cNvPr id="636" name="Line 5"/>
                <p:cNvSpPr/>
                <p:nvPr/>
              </p:nvSpPr>
              <p:spPr>
                <a:xfrm>
                  <a:off x="5364000" y="3077640"/>
                  <a:ext cx="34560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37" name=""/>
                <p:cNvSpPr txBox="1"/>
                <p:nvPr/>
              </p:nvSpPr>
              <p:spPr>
                <a:xfrm>
                  <a:off x="5364000" y="3077640"/>
                  <a:ext cx="3456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5364000" y="5387400"/>
                <a:ext cx="3456000" cy="360"/>
                <a:chOff x="5364000" y="5387400"/>
                <a:chExt cx="3456000" cy="360"/>
              </a:xfrm>
            </p:grpSpPr>
            <p:sp>
              <p:nvSpPr>
                <p:cNvPr id="639" name="Line 6"/>
                <p:cNvSpPr/>
                <p:nvPr/>
              </p:nvSpPr>
              <p:spPr>
                <a:xfrm>
                  <a:off x="5364000" y="5387400"/>
                  <a:ext cx="34560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40" name=""/>
                <p:cNvSpPr txBox="1"/>
                <p:nvPr/>
              </p:nvSpPr>
              <p:spPr>
                <a:xfrm>
                  <a:off x="5364000" y="5387400"/>
                  <a:ext cx="3456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5364000" y="2012040"/>
                <a:ext cx="3529080" cy="360"/>
                <a:chOff x="5364000" y="2012040"/>
                <a:chExt cx="3529080" cy="360"/>
              </a:xfrm>
            </p:grpSpPr>
            <p:sp>
              <p:nvSpPr>
                <p:cNvPr id="642" name="Line 7"/>
                <p:cNvSpPr/>
                <p:nvPr/>
              </p:nvSpPr>
              <p:spPr>
                <a:xfrm>
                  <a:off x="5364000" y="2012040"/>
                  <a:ext cx="35290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43" name=""/>
                <p:cNvSpPr txBox="1"/>
                <p:nvPr/>
              </p:nvSpPr>
              <p:spPr>
                <a:xfrm>
                  <a:off x="5364000" y="2012040"/>
                  <a:ext cx="3529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378400" y="2000520"/>
                <a:ext cx="360" cy="3434760"/>
                <a:chOff x="5378400" y="2000520"/>
                <a:chExt cx="360" cy="3434760"/>
              </a:xfrm>
            </p:grpSpPr>
            <p:sp>
              <p:nvSpPr>
                <p:cNvPr id="645" name="Line 8"/>
                <p:cNvSpPr/>
                <p:nvPr/>
              </p:nvSpPr>
              <p:spPr>
                <a:xfrm>
                  <a:off x="5378400" y="2000520"/>
                  <a:ext cx="0" cy="3434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46" name=""/>
                <p:cNvSpPr txBox="1"/>
                <p:nvPr/>
              </p:nvSpPr>
              <p:spPr>
                <a:xfrm>
                  <a:off x="5378400" y="2000520"/>
                  <a:ext cx="360" cy="343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8850240" y="1989000"/>
                <a:ext cx="360" cy="3434760"/>
                <a:chOff x="8850240" y="1989000"/>
                <a:chExt cx="360" cy="3434760"/>
              </a:xfrm>
            </p:grpSpPr>
            <p:sp>
              <p:nvSpPr>
                <p:cNvPr id="648" name="Line 9"/>
                <p:cNvSpPr/>
                <p:nvPr/>
              </p:nvSpPr>
              <p:spPr>
                <a:xfrm>
                  <a:off x="8850240" y="1989000"/>
                  <a:ext cx="0" cy="3434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49" name=""/>
                <p:cNvSpPr txBox="1"/>
                <p:nvPr/>
              </p:nvSpPr>
              <p:spPr>
                <a:xfrm>
                  <a:off x="8850240" y="1989000"/>
                  <a:ext cx="360" cy="343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650" name="Text Box 10"/>
          <p:cNvSpPr/>
          <p:nvPr/>
        </p:nvSpPr>
        <p:spPr>
          <a:xfrm>
            <a:off x="5724360" y="1968480"/>
            <a:ext cx="3241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4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üe</a:t>
            </a:r>
            <a:endParaRPr b="0" i="1" lang="en-US" sz="20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1" name="Text Box 11"/>
          <p:cNvSpPr/>
          <p:nvPr/>
        </p:nvSpPr>
        <p:spPr>
          <a:xfrm>
            <a:off x="3348000" y="5589720"/>
            <a:ext cx="60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一轮弯月   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üe    üe   üe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52" name="Picture 12" descr="2823756966362753763"/>
          <p:cNvPicPr/>
          <p:nvPr/>
        </p:nvPicPr>
        <p:blipFill>
          <a:blip r:embed="rId1"/>
          <a:stretch/>
        </p:blipFill>
        <p:spPr>
          <a:xfrm>
            <a:off x="1187280" y="1984320"/>
            <a:ext cx="3632400" cy="3594240"/>
          </a:xfrm>
          <a:prstGeom prst="rect">
            <a:avLst/>
          </a:prstGeom>
          <a:ln w="0">
            <a:noFill/>
          </a:ln>
        </p:spPr>
      </p:pic>
      <p:sp>
        <p:nvSpPr>
          <p:cNvPr id="653" name="同侧圆角矩形 1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48:00Z</dcterms:created>
  <dc:creator>www.xkb1.com</dc:creator>
  <dc:description/>
  <dc:language>en-US</dc:language>
  <cp:lastModifiedBy>万润仪器贸易公司</cp:lastModifiedBy>
  <dcterms:modified xsi:type="dcterms:W3CDTF">2020-08-24T01:46:10Z</dcterms:modified>
  <cp:revision>6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